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16B5-E513-4899-910A-C76EBC80C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86080"/>
            <a:ext cx="862308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560" y="4086360"/>
            <a:ext cx="862308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E79B-D107-469B-8242-098A022DD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48608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23560" y="148608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408636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23560" y="408636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5801-0A8F-4990-BCF4-011F5D25C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486080"/>
            <a:ext cx="277632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0200" y="1486080"/>
            <a:ext cx="277632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5480" y="1486080"/>
            <a:ext cx="277632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560" y="4086360"/>
            <a:ext cx="277632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0200" y="4086360"/>
            <a:ext cx="277632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5480" y="4086360"/>
            <a:ext cx="277632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9920-DDC4-4B77-B9E4-99AD2F975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1486080"/>
            <a:ext cx="8623080" cy="49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7e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486080"/>
            <a:ext cx="8623080" cy="49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486080"/>
            <a:ext cx="4208040" cy="49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3560" y="1486080"/>
            <a:ext cx="4208040" cy="49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17160" y="304920"/>
            <a:ext cx="71247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fff7e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48608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23560" y="1486080"/>
            <a:ext cx="4208040" cy="49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560" y="408636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560" y="1486080"/>
            <a:ext cx="8623080" cy="49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519A-60C5-4612-B05E-A9AE77D09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486080"/>
            <a:ext cx="4208040" cy="49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3560" y="148608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23560" y="408636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48608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3560" y="148608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4086360"/>
            <a:ext cx="862308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486080"/>
            <a:ext cx="862308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560" y="4086360"/>
            <a:ext cx="862308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48608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3560" y="148608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408636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23560" y="408636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486080"/>
            <a:ext cx="277632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20200" y="1486080"/>
            <a:ext cx="277632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35480" y="1486080"/>
            <a:ext cx="277632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560" y="4086360"/>
            <a:ext cx="277632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20200" y="4086360"/>
            <a:ext cx="277632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35480" y="4086360"/>
            <a:ext cx="277632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560" y="1486080"/>
            <a:ext cx="8623080" cy="49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CF4A-B02A-4237-88B9-94B9293A9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486080"/>
            <a:ext cx="4208040" cy="49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23560" y="1486080"/>
            <a:ext cx="4208040" cy="49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75CB-84F5-4273-B3A4-E58AD2940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8041-4C1D-4304-B9A9-591129FE4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7160" y="304920"/>
            <a:ext cx="71247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E98E-4ED6-478E-A44C-08C0972A4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148608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3560" y="1486080"/>
            <a:ext cx="4208040" cy="49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560" y="408636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DFB5-6E2F-4C07-9D68-D3D1B277D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86080"/>
            <a:ext cx="4208040" cy="49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3560" y="148608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23560" y="408636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26BB-D238-48F3-9E92-070AAD19F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8608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3560" y="1486080"/>
            <a:ext cx="420804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4086360"/>
            <a:ext cx="8623080" cy="23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CFD7-0888-4314-A36D-A4CFF4799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560" y="1486080"/>
            <a:ext cx="8623080" cy="49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e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e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7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e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7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7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733880" y="65530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c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F768-DCE5-4FE4-A93B-10AC3C8EA2DE}" type="slidenum">
              <a:rPr b="1" lang="en-US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600" y="216000"/>
            <a:ext cx="5410440" cy="25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304920"/>
            <a:ext cx="7124760" cy="90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High-Level User Interfaces for</a:t>
            </a:r>
            <a:br>
              <a:rPr sz="2400"/>
            </a:b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Transfer Function Design with Semantic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79480" y="1616040"/>
            <a:ext cx="7191360" cy="47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00DE-43B9-4DED-AB78-7F9352131B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6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8:41:10Z</dcterms:created>
  <dc:creator>Melissa Kingman</dc:creator>
  <dc:description/>
  <dc:language>en-US</dc:language>
  <cp:lastModifiedBy>Christof Rezk Salama</cp:lastModifiedBy>
  <dcterms:modified xsi:type="dcterms:W3CDTF">2006-10-26T11:08:29Z</dcterms:modified>
  <cp:revision>51</cp:revision>
  <dc:subject/>
  <dc:title>PowerPoint Presentation</dc:title>
</cp:coreProperties>
</file>